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C45-A3B6-4565-8C7B-F2BCC4B3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1EF-C9D9-4100-A2D5-67A75AE7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4B2-89D8-4468-93F5-CF2D8C06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98E-335D-4122-AF32-D72F98EB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98F9-B65C-46B6-83D3-900CD034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AC3F-1009-461F-81FB-3693EAD6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BDDD-BC84-49DA-9C7C-18867687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DCDC-55AE-4B78-B565-AF3119E2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DBBC-B602-4B12-8FBF-7B4B3D08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1830-9271-4AE1-9437-D15B386A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2B6E-E797-45E8-A6DB-66D3E0AE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E93-EEEC-4492-9DB1-588CD14C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05F2-E61B-4BD9-ADBC-330E4DB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FB51-7D2F-41B2-82AC-9855EB3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916B-A87E-48BF-9C06-2B57C316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C6C0-0DBA-438D-B599-79C3FFF6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8A43-1AA4-4E1B-B381-BB9CBD79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BEF-337B-4DC5-9C59-363050CE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318-7B4A-4D18-89F4-364C7B94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522-4663-4666-8D7F-9D90BC5E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120-C392-4156-A6DC-B3C0221C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D30-F9DB-4864-8585-7000087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540-F319-448D-B6A1-DA196C32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2BE-12FB-4455-9545-E58703E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C3C2-5D55-410F-8AF8-2A90023F4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2200-6205-4474-BC5E-81B368EE754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illiam Shakespe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ing the B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ved from 1564-16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n in Stratford upon Av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rried Anne Hathaway in 158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veled to London to work as an actor in 15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ckground (cont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me popular quick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er bridged reig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zabeth I (1558-16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I (1603-16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his death, works quickly coll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ckground (cont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arly 1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entury, Shakespeare was regarded as most renowned playw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elieve Shakespeare did not write his own 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ote 37 plays and 154 sonn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20:44:30Z</dcterms:created>
  <dc:creator>jvanengen</dc:creator>
  <dc:description/>
  <dc:language>en-US</dc:language>
  <cp:lastModifiedBy>Administrator</cp:lastModifiedBy>
  <dcterms:modified xsi:type="dcterms:W3CDTF">2012-01-05T17:27:34Z</dcterms:modified>
  <cp:revision>5</cp:revision>
  <dc:subject/>
  <dc:title>William Shakespeare</dc:title>
</cp:coreProperties>
</file>